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CD4-0FF4-4936-B625-02B5444A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999-59C5-43ED-98E2-2542D4A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7F5-4581-4C11-9DE5-54F01E6A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3EF-7C6C-4D2D-B090-8C2051D4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5A4-0371-4061-8545-E3518134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E85-037B-4F47-80D1-EB759077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FBE-7E74-44A2-871A-E760142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64B-67F0-4A72-A9FA-E3BC29D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1F2-7B1D-41D6-A2AC-BFA43977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83C-B020-40CF-81F6-8BC35E3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B7C-CE1F-4931-AE12-29B84E04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D3C-A6F6-4DBD-911D-806D8651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A596-15B3-4691-9221-85868CF94376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sr-R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071800"/>
            <a:ext cx="8643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сличне хемијске грађе могу изазвати исту алергијску реакцију иако је само један од њих претходно дошао у контакт са организ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бог сличне хемијске грађе имуни систем их препознаје као исту супстанцу, исти антиген, и због тога долази до алергијске реак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92888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ознатији пример за укрштену алергију јес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ефалоспор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оба која је алергична на пеницилин може алергијски реаговати и на цефалоспорине (око 8-15% пацијената), иако претходно никада није примала ту врсту антибиотика. Наиме, пеницилини и цефалоспорини имају један идентичан део молекула -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бета-лактамски прст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због кога их имуни систем препознаје као исту врсту анти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1928880"/>
            <a:ext cx="8929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углавном користе због свог анти-алергијског деј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је две генерације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ови из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ве генерациј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анол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дифенхидрамин, дименхидринат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иленди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ириламин, трипеленамин)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лкиламин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хлорфенирамин, циклизин, меклизин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оксиз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фенотиазин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рометазин, ципрохепт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1859040"/>
            <a:ext cx="8001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су липофилни, па се добро апсорбују, продиру у ЦНС и метаболишу у јетри хидрокси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аболити се излучују у урину, тако да време полу-елиминације обично износи 4-6 ч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2000160"/>
            <a:ext cx="82152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бог проласка у ЦНС, изазивај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оги од антихистаминика прве генерације имају антимускаринско дејство; фенотиазини блокирају још алфа адренергичке рецепторе, а ципрохептадин блокира и рецепторе за серото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важнија нежељена дејства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 прве генерације су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седаци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антимускарин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фекти (сува уста, опстипација, ретенција урина, парализа акомодац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1785960"/>
            <a:ext cx="8643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лучају тровања (узимања доза антихистаминика вишеструко већих од препоручених) јављају с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симптоми слични тровању атропин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 почетку ексцитација, халуцинације, сува уста, мидријаза, црвенило лица, ретенција урина, тахикардија, а касније конвулзије и к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ублажавају симптоме алергијских реакција (алергијски ринитис, уртикарија, анафилактичке реакције), могу спречити појаву кинетозе, повољно делују симптоматски код Мениеровог синдрома (вртоглавица због пораста притиска ендолимфе у полукружним каналићима) и могу се користити као хипн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1714680"/>
            <a:ext cx="8858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уге генераци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 хидросолубилни лекови, 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иперид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слабо продиру у ЦНС и изазивају врло слаб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ратадин, деслоратадин, цетиризин и фексофенадин се релативно споро елиминишу, тако да им дејство траје и до 24 часа. Лоратадин и деслоратадин се метаболишу у јетри на цитохрому ЦИП3А4, док се цетиризин и фексофенадин не метаболишу, већ неизмењени излучују у урину (цетиризин) и фецесу (фексофен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996920"/>
            <a:ext cx="82152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ед тога, антихистаминици друге генерације инхибирају ослобађање великог броја инфламаторних медијатора, механизмом који не укључује блокад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7120" y="2643120"/>
            <a:ext cx="8786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то се они осим за лечење алергијских манифестација (алергијски ринитис, уртикарија, анафилактичке реакције), користе и као додатни лекови за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бронхијалну астму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себно ако је праћена ринитисом, уртикаријом или дерматити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2960" y="1785960"/>
            <a:ext cx="8072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групи Х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хистаминика друге генерације су се некада налаз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терфена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стемиз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 међутим, ова два лека су блокирала канале за јоне калијума (К+) у миокарду, продужавал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тервал у ЕКГ-у и изазивала потенцијално фаталну коморску тахикардију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orsades de pointes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о је било посебно изражено код особа које су узимале и друге лекове, инхибиторе цитохрома ЦИП3А4, због чега је долазило до скока концентрације терфенадина или астемизола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нас су терфенадин и астемизол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забрање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за употребу у многим земљ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4240" y="2274840"/>
            <a:ext cx="80726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им за већ наведене индикациј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користе и за лечење тежих облика повраћања у 1. триместру трудноће (хyперемесис гравидару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а за овакву примен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локатора је постојање функционалних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 у центру за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57120" y="208908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ви лек који треба применити када наступи анафилактичка реакциј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трамускулар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зблажења 1:1000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пкутану примену треба избегавати, јер је апсорпција лека са места примене непредвидљив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у примену треба резервисати само за тежак анафилактички шок, јер је такав пут примене скопчан са високим ризиком од настанк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ритм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Ако се адреналин примењује интравенски, мора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тходно разблаж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односу 1: 1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28760" y="227484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а адреналина код деце је 0.0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до максимално 0.3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е адреналина и код одраслих, и код деце, се могу понављати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 сваких 10 мину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све док се знаци и симптоми анафилаксе не повуку, или не дође до појаве нежељених дејстава лека (палпитације, тремор, страх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1918800"/>
            <a:ext cx="89298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, треба обезбедити пролазност дисајних путева код болесника, и применити кисео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адреналина, болеснику треба дати блокаторе хистаминских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ецептора, дифенхидрам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ранитид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. Комбинациј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 је делотворнија од примене сам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болесник има бронхоспазам, корисно је применити салбутамол (агонист бета-два рецептор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 виду инхал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7120" y="22860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м болесницима са анафилаксом треба дати и кортикостероиде (нпр. метилпреднизолон, 12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, или 5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днизона орално). Они могу да спрече настанак друге фазе анафилактич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у болесници екстремно хипотензивни, треба им дати интравенски 5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изиолошког 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7120" y="145260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болесник са анафилактичком реакцијом на хроничној терапији са бета-блокаторима или инхибиторима ангиотензин-конвертујућег ензима, неће добро реаговати на адреналин. Тада треба применити глукагон, који не делује преко бета-рецептора, а има хронотропно, инотропно и вазоактивно дејство, и изазива ослобађање катехоламина из нервних заврше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дође до побољшања стања болесника, терапију са антихистаминицима и кортикостероидима наставити још четири дана. По потпуном смиривању анафилаксе, неопходно је утврдити на који антиген је болесник алергичан како би могао у будућности да га се клони. То се може учинити алергијским кожним пробама и утврђивањем прису­ства специфичних ИгЕ анти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д особа алегичних на неки лек по првом типу алергије, у случају виталне угрожености и непостојања адекватне замене, тај лек се може применити поступком брзе десензибилизац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емедикација са Н1 и Н2 антихистамини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праве се 4 разблажења лека, свако следеће 10 пута више разблажено од претходн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роз 16 корака примењује се лек од највећег до најмањег разблажења, по посебном протокол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ут примене је интравенски, али може и орално и на други нач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ужина примене сваке дозе је око 15 мину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сле десензибилизације лек се може нормално дозирати уколико се континуирано примењује, тј. сваког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РАСТВОРИ ЛЕКОВА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(Solutiones medicinal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57120" y="244404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лекова су бистри течни препарати који садрже главни лек растворен у одговарајућем растварачу. Растварачи могу бити: вода, етанол, глицерол, уља (биљна или минерална). Вода која се користи за израду раствора мора бити дестилована или деминерализована (аqуа пурифицата).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љаних растварача највише се користи маслиново у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и се издају у боцама од стакла или пластике (витрум). Раствори лекова могу бити намењени за спољашњу или унутрашњу 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00040" y="1714680"/>
            <a:ext cx="8358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аки ле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же изазвати алергијску реакцију код болесника, па чак и они који се користе за лечење алергија. Наравно, неки лекови то чине чешће (нпр. пеницилин), а неки веома ретко (нпр. лидо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 који изазове алергију се заправо понаша као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ге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то сам по себи или тек у вези са неким састојком организма (најчешће протеинске природ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првог контакта са леком имунолошки систем организма ствара слободна антитела на лек или клонове Т-лимфоцита који могу да (преко специфичних антитела на својој мембрани) препознају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Раствори лекова за унутрашњу (оралну) употреб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00040" y="200016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и се прописују у облику раствора за унутрашњу примену само ако примена у облику таблете или капсуле није могућа. То се дешава  када је лек намењен деци млађој од 8 година (код њих се таблете или капсуле не могу примењивати због великог ризика од аспирације), када је лек на собној температури у течном агрегатном стању или када је лек сувише хигроскоп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 се увек морају свеже припремити за употребу јер се брзо кваре (зато се прописује количина која је довољна само за 3-5 дана). Апотекар болеснику издаје целу количину раствора у стакленој боци, а болесник сам одмерава појединачну д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одмеравање се корис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ика (кашичица)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Узима се да велика кашика захвата 15 мл течности, а мала кашика 5 мл. Зато лекар када прописује раствор лека за унутрашњу примену мора у ординацији да подеси однос главног лека и растварача тако да појединачна доза лека буде садржана у 5 ил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15 м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унутр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2088000"/>
            <a:ext cx="8715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 како изгледа магистрално прописан рецепт за раствор ефикасног експекторанса калијум-јод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i iodidi                                   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   ad       5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solu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vitrum nig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ута дневно размитити једну кафену кашичицу раствора у чаши воде и поп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дна кафена кашичица захвата 5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, у њој ће бити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g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јодида, што представља средњу појединачну дозу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ad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Da ad vitrum nigrum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ј у тамној боц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зато што је калијум-јодид осетљив на светлос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Раствори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42960" y="242892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Раствори за спољашњу употребу се користе за дезинфекцију коже, за испирање шупљина (ране, усна дупља, вагина, мокраћна бешика) и за припремање облога. Издају се у стакленим боцама, обично у већој концентрацији од оне у којој треба да се примене. Зато лекар у сигнатури иза речи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Споља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ора да напише упутство болеснику како да разблажи раствор пре примене. Као погодне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користе се велика кашика (15 мл) или чаша која захвата између 150 и 200 мл. Ако раствор за спољашњу примену садржи супстанце врло јаког дејства, он мора бити обојен јарко-плавом бој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2086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готових дезинфицијентних раствора је раствор поливинилпиролидон јодида, који се користи за чишћење оперативног поља и дезинфекцију руку хирур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don jod 10%   solutio      5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clusionem praeformatam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ља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а размутити у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илне дестиловане воде. Са тако разблаженим раствором се може дезинфиковати кожа ру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57120" y="2357280"/>
            <a:ext cx="87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зависности од места (врсте ћелија, ткива) за које је лек везан и од доминантног начина реакције имунолошког система (стварањем слободних антитела или Т-лимфоцита) приликом следећег контакта са леком организам може реаговати алергијски на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4 различита начи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четири типа алергијске ре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85840" y="1409760"/>
            <a:ext cx="85723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 овог типа реакције организам после првог контакта са леком ствара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Иг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антитела на лек која се везују својим Фц делом за мембрану мастоц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лек следећи пут доспе у организам (најраније после 5-7 дана од првог контакта), везује се за ИгЕ антитела на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мастоцити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и проузрокује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дегранулацију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ових ћелија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 гранула мастоцита се ослобађа низ медијатора (хистамин, хемотактички фактори, хепарин, арилсулфатаза Б, итд.), који изазивају вазодилатацију, хипотензију и едем (услед повећане пропустљивости капилар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инички се то може манифестовати шоком (тзв.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анафилактички шо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 или отоком меких ткива врата и душника који проузрокује гушење болесника (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Квинкео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еде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. Блаже реакције се манифестују само оспом -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уртико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копривњач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2000160"/>
            <a:ext cx="85010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филактичка реакција се леч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естан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имене ле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ју је изазвао а затим моменталном применом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дренал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.5 мг супкутано или 0.3 мг интрамускуларно или 0.2 мг интравенс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је адреналин већ примењен, болеснику треба дати ињекцију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кортикостероид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антихистамин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ко се анафилактичка реакција манифестује само копривњачом, тада је довољно применити само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2. тип (директна цитотоксичн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2214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2. типа реакције после првог уношења лека у организам имуни систе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тела на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да се лек поново унесе у организам, он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веже за мембрану неке врсте ћелија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Антитела се затим везују за лек и активирају комплемент који разара мембрану крвне ћелије. Резултат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лиза ћел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тј. хемолитичка анемија, леукопенија или тромбоцитопенија, зависно од врсте ћелија за које је лек ве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3. тип (стварање имуних комплекс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57120" y="235728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код овог типа реакције организа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тела, али се лек не везује за мембрану ћел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ре код поновљеног уношења лека дође до везивања лека и антитела (тј. настају такозвани имуни комплекси), а затим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мплекси антиген-антител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аложе у ткивима и зидовима крвних суд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и комплекси у ткивима изазив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ктивацију инфламаторних ћел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лимфоцита, полиморфонуклеара, макрофага) и настанак запа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4. тип (касна преосетљив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1928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сна преосетљивост је везана за стварањ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онова Т-лимфоци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препознају лек као анти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што је за имуну реакцију Т-лимфоцита потребно извесно време, реакција на поновно уношење антигена настаје тек после латентног периода од 48-72 часа. Отуда и назив касна преосетљив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нтактни дерматитис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може настати после локалне примене лекова заснован је на механизму касне преосетљивости. Истим механизмом наст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и хепатит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нефритис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осле примен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33:52Z</dcterms:modified>
  <cp:revision>197</cp:revision>
  <dc:subject/>
  <dc:title>Slide 1</dc:title>
</cp:coreProperties>
</file>